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8C5-64A4-467C-8D95-5E084F6D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AEC-68DA-4632-BF50-979309F9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F8B-8FD7-4D2F-B70B-350B8927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05D-3C88-4A26-8380-A83FEFCF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3F4-7C03-4F4E-B41F-7284E25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8FF-17D5-4BA1-B020-0377A3EE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F02-ACDA-4EA2-9A89-55BC874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4BB-DF13-495C-B724-4AA5F63B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7AE-634A-44B3-8922-41AF1F86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5B9-53F2-413D-90A3-4E4BD14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5D2-56F5-4E0E-B96C-54F2828D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A82-60B9-4CA2-9842-4334A9D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98A-DDBD-4920-8B77-4E21D55DC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1422360"/>
            <a:ext cx="2582640" cy="3125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200" y="14670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entre for Human Sc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1760" y="2590920"/>
            <a:ext cx="4589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formance &amp; Erro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4440" y="3219480"/>
            <a:ext cx="28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John Chappe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Louisa 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8001000" cy="4572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748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2480" y="5353200"/>
            <a:ext cx="20901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ministr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ppor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57680" y="3886200"/>
            <a:ext cx="23810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valuation of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2600" y="3905280"/>
            <a:ext cx="24242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valuation of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09440" y="2419200"/>
            <a:ext cx="15966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adequ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ie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54280" y="2438280"/>
            <a:ext cx="26190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7200" y="2438280"/>
            <a:ext cx="13845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2320" y="324000"/>
            <a:ext cx="29239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8560" y="343080"/>
            <a:ext cx="2398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4 crew: wea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7040" y="495360"/>
            <a:ext cx="202644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/c sho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000160" y="3314520"/>
            <a:ext cx="571680" cy="533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038480" y="4781160"/>
            <a:ext cx="0" cy="514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838600" y="1199880"/>
            <a:ext cx="9712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943440" y="3352320"/>
            <a:ext cx="0" cy="514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95960" y="3314880"/>
            <a:ext cx="971640" cy="723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14880" y="743040"/>
            <a:ext cx="4190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334120" y="1199880"/>
            <a:ext cx="9144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7480" y="1218960"/>
            <a:ext cx="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48200" y="743040"/>
            <a:ext cx="781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926400" y="4140360"/>
            <a:ext cx="185256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76040" y="2533680"/>
            <a:ext cx="1489680" cy="825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249960" y="1199880"/>
            <a:ext cx="1695600" cy="13525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334120" y="4343400"/>
            <a:ext cx="15811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3040" y="625320"/>
            <a:ext cx="15217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67520" y="223848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0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880" y="22003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93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8840" y="1257120"/>
            <a:ext cx="1112760" cy="888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780000" y="1218960"/>
            <a:ext cx="439560" cy="96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019840" y="1270080"/>
            <a:ext cx="39816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425560" y="1219320"/>
            <a:ext cx="1033560" cy="952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3040" y="625320"/>
            <a:ext cx="15217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67520" y="223848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80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43880" y="22003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93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2200" y="2527200"/>
            <a:ext cx="630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908680" y="2463840"/>
            <a:ext cx="550800" cy="25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98840" y="1257120"/>
            <a:ext cx="1112760" cy="888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80000" y="1218960"/>
            <a:ext cx="439560" cy="96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019840" y="1270080"/>
            <a:ext cx="39816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425560" y="1219320"/>
            <a:ext cx="1033560" cy="952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3040" y="625320"/>
            <a:ext cx="15217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67520" y="223848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80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43880" y="22003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93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17200" y="52102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79160" y="52228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8360" y="40924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788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7328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9640" y="51721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6080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066680" y="2844360"/>
            <a:ext cx="1016280" cy="13208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574640" y="2806560"/>
            <a:ext cx="1562400" cy="134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298600" y="2844720"/>
            <a:ext cx="939960" cy="2502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568680" y="2857320"/>
            <a:ext cx="0" cy="12445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86200" y="2831760"/>
            <a:ext cx="711360" cy="2514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140360" y="2819520"/>
            <a:ext cx="1434960" cy="12952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73800" y="2806560"/>
            <a:ext cx="304560" cy="134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2895120"/>
            <a:ext cx="939960" cy="12826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985080" y="2895480"/>
            <a:ext cx="0" cy="24004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238520" y="2908440"/>
            <a:ext cx="965160" cy="12571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2200" y="2527200"/>
            <a:ext cx="630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908680" y="2463840"/>
            <a:ext cx="550800" cy="25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598840" y="1257120"/>
            <a:ext cx="1112760" cy="888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780000" y="1218960"/>
            <a:ext cx="439560" cy="96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019840" y="1270080"/>
            <a:ext cx="39816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425560" y="1219320"/>
            <a:ext cx="1033560" cy="952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40" y="0"/>
            <a:ext cx="9140760" cy="6854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932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04920"/>
            <a:ext cx="1755720" cy="1145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1828800"/>
            <a:ext cx="1755720" cy="1146240"/>
          </a:xfrm>
          <a:prstGeom prst="rect">
            <a:avLst/>
          </a:prstGeom>
          <a:noFill/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1828800"/>
            <a:ext cx="1755720" cy="114624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1828800"/>
            <a:ext cx="1755720" cy="11462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5410080"/>
            <a:ext cx="1523880" cy="99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410080"/>
            <a:ext cx="1523880" cy="99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derarou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5410080"/>
            <a:ext cx="1523880" cy="99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5410080"/>
            <a:ext cx="1524240" cy="99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5410080"/>
            <a:ext cx="1524240" cy="99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77960" y="1162080"/>
            <a:ext cx="1873440" cy="627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44920" y="1449000"/>
            <a:ext cx="415800" cy="3207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5373360" y="1487520"/>
            <a:ext cx="415800" cy="2887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5563800" y="1201680"/>
            <a:ext cx="2117880" cy="5558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40840" y="382680"/>
            <a:ext cx="1598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-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d-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080" y="1982880"/>
            <a:ext cx="1335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8080" y="1982880"/>
            <a:ext cx="126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34520" y="1844640"/>
            <a:ext cx="1589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ppl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07400" y="1982880"/>
            <a:ext cx="1555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066680" y="2948040"/>
            <a:ext cx="0" cy="241128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220400" y="2973240"/>
            <a:ext cx="476280" cy="78120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424160" y="2947680"/>
            <a:ext cx="1411200" cy="247788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579680" y="2950920"/>
            <a:ext cx="2381040" cy="240660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135160" y="2973240"/>
            <a:ext cx="1542960" cy="85752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733920"/>
            <a:ext cx="152388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657600" y="2973240"/>
            <a:ext cx="0" cy="85752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3811680" y="2973240"/>
            <a:ext cx="1466640" cy="85752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146480" y="2973240"/>
            <a:ext cx="804960" cy="85752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2973240"/>
            <a:ext cx="0" cy="85752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60920" y="2973240"/>
            <a:ext cx="593640" cy="242280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716440" y="2972880"/>
            <a:ext cx="727200" cy="242892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5945040" y="2973240"/>
            <a:ext cx="1238400" cy="85752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978440" y="3049200"/>
            <a:ext cx="2257560" cy="235908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451400" y="2973240"/>
            <a:ext cx="2328840" cy="85752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229440" y="3049200"/>
            <a:ext cx="779400" cy="71748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3733920"/>
            <a:ext cx="152388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959520" y="2972880"/>
            <a:ext cx="962280" cy="246060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543800" y="2973240"/>
            <a:ext cx="0" cy="85752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305920" y="3029040"/>
            <a:ext cx="0" cy="240192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24280" y="3733920"/>
            <a:ext cx="15242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3733920"/>
            <a:ext cx="15242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1755720" cy="114624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" y="0"/>
            <a:ext cx="9140760" cy="6854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932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39800" y="2491920"/>
            <a:ext cx="350640" cy="263700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57200" y="2492280"/>
            <a:ext cx="0" cy="362736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7520" y="4813200"/>
            <a:ext cx="1206360" cy="7495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e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752480" y="990360"/>
            <a:ext cx="221004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506760" y="1294920"/>
            <a:ext cx="379440" cy="3034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105520" y="1294920"/>
            <a:ext cx="823680" cy="3034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334120" y="1066680"/>
            <a:ext cx="2133360" cy="5335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85560" y="382680"/>
            <a:ext cx="1309320" cy="819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-op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id-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677960"/>
            <a:ext cx="1473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appropri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f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10040" y="1754280"/>
            <a:ext cx="1415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24800" y="1768320"/>
            <a:ext cx="1357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5400" y="1754280"/>
            <a:ext cx="905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vi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9480" y="2492280"/>
            <a:ext cx="0" cy="141768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120320" y="2491920"/>
            <a:ext cx="808200" cy="172260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501560" y="2491920"/>
            <a:ext cx="2027160" cy="164628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273320" y="2492280"/>
            <a:ext cx="1265040" cy="233208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873520" y="2492280"/>
            <a:ext cx="731520" cy="33228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025440" y="2492280"/>
            <a:ext cx="1950840" cy="33228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924280" y="2491920"/>
            <a:ext cx="2840040" cy="339876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514840" y="2491920"/>
            <a:ext cx="630360" cy="339876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19560" y="2492280"/>
            <a:ext cx="1697040" cy="332280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6531120" y="2492280"/>
            <a:ext cx="350640" cy="134136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226200" y="2492280"/>
            <a:ext cx="426960" cy="332280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990960" y="2492280"/>
            <a:ext cx="554040" cy="332280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701960" y="2492280"/>
            <a:ext cx="655560" cy="3322800"/>
          </a:xfrm>
          <a:prstGeom prst="line">
            <a:avLst/>
          </a:prstGeom>
          <a:ln w="507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892080" y="2492280"/>
            <a:ext cx="960480" cy="332280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3840" y="1612800"/>
            <a:ext cx="1361880" cy="9050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22640" y="1612800"/>
            <a:ext cx="1361880" cy="9050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75120" y="1612800"/>
            <a:ext cx="1361880" cy="905040"/>
          </a:xfrm>
          <a:prstGeom prst="rect">
            <a:avLst/>
          </a:prstGeom>
          <a:noFill/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7600" y="1612800"/>
            <a:ext cx="1362240" cy="905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80440" y="1612800"/>
            <a:ext cx="1361880" cy="905040"/>
          </a:xfrm>
          <a:prstGeom prst="rect">
            <a:avLst/>
          </a:prstGeom>
          <a:noFill/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425240" y="2492280"/>
            <a:ext cx="1950840" cy="3322800"/>
          </a:xfrm>
          <a:prstGeom prst="line">
            <a:avLst/>
          </a:prstGeom>
          <a:ln w="507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523880" y="2491920"/>
            <a:ext cx="5992920" cy="246060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7520" y="37465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6683400" y="2492280"/>
            <a:ext cx="960480" cy="233208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371840" y="2491920"/>
            <a:ext cx="1468440" cy="248436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71800" y="2491920"/>
            <a:ext cx="4697280" cy="246060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71800" y="2491920"/>
            <a:ext cx="5230800" cy="352764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6378480" y="2492280"/>
            <a:ext cx="503280" cy="233208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6607080" y="2492280"/>
            <a:ext cx="1036800" cy="332280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523880" y="2491920"/>
            <a:ext cx="6450120" cy="345132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43440" y="2492280"/>
            <a:ext cx="249480" cy="149400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254720" y="2492280"/>
            <a:ext cx="1252800" cy="338616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60920" y="37465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65440" y="4813200"/>
            <a:ext cx="1206360" cy="7495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89320" y="4813200"/>
            <a:ext cx="1206360" cy="7495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derarou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60920" y="4813200"/>
            <a:ext cx="1206360" cy="7495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i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4813200"/>
            <a:ext cx="1206360" cy="7495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0" y="4813200"/>
            <a:ext cx="1206720" cy="7495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7520" y="58039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5440" y="58039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ir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89320" y="58039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7240" y="58039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08840" y="58039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56400" y="5803920"/>
            <a:ext cx="120672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ni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04280" y="1730520"/>
            <a:ext cx="10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648320" y="1294920"/>
            <a:ext cx="0" cy="3286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835680" y="2491920"/>
            <a:ext cx="884160" cy="122724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346640" y="2492280"/>
            <a:ext cx="1265040" cy="1354320"/>
          </a:xfrm>
          <a:prstGeom prst="line">
            <a:avLst/>
          </a:prstGeom>
          <a:ln w="507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8686800" y="2491920"/>
            <a:ext cx="0" cy="126540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315200" y="2492280"/>
            <a:ext cx="1116000" cy="131760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971800" y="2491920"/>
            <a:ext cx="4468680" cy="1241640"/>
          </a:xfrm>
          <a:prstGeom prst="line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0" y="3746520"/>
            <a:ext cx="120672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08840" y="37465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13000" y="3746520"/>
            <a:ext cx="120672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65440" y="3746520"/>
            <a:ext cx="1206360" cy="749160"/>
          </a:xfrm>
          <a:prstGeom prst="rect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440" y="0"/>
            <a:ext cx="9141120" cy="6854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3120" y="60976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anded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60360" y="243000"/>
            <a:ext cx="581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jor causal factors: Huma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03040" y="685800"/>
          <a:ext cx="894096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685800"/>
                    <a:ext cx="89409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440" y="0"/>
            <a:ext cx="9141120" cy="6854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2040" y="6146640"/>
            <a:ext cx="203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pand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2360" y="230040"/>
            <a:ext cx="4253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nsitivity: Huma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1200" y="712800"/>
            <a:ext cx="8694720" cy="5008680"/>
          </a:xfrm>
          <a:custGeom>
            <a:avLst/>
            <a:gdLst/>
            <a:ahLst/>
            <a:rect l="l" t="t" r="r" b="b"/>
            <a:pathLst>
              <a:path w="5477" h="3155">
                <a:moveTo>
                  <a:pt x="0" y="0"/>
                </a:moveTo>
                <a:lnTo>
                  <a:pt x="5476" y="0"/>
                </a:lnTo>
                <a:lnTo>
                  <a:pt x="5476" y="3154"/>
                </a:lnTo>
                <a:lnTo>
                  <a:pt x="0" y="3154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1200" y="735120"/>
            <a:ext cx="0" cy="497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89120" y="735120"/>
            <a:ext cx="0" cy="497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46400" y="735120"/>
            <a:ext cx="0" cy="497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41880" y="735120"/>
            <a:ext cx="0" cy="497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499520" y="735120"/>
            <a:ext cx="0" cy="497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947080" y="735120"/>
            <a:ext cx="0" cy="497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1200" y="712800"/>
            <a:ext cx="8707680" cy="5021280"/>
          </a:xfrm>
          <a:custGeom>
            <a:avLst/>
            <a:gdLst/>
            <a:ahLst/>
            <a:rect l="l" t="t" r="r" b="b"/>
            <a:pathLst>
              <a:path w="5485" h="3163">
                <a:moveTo>
                  <a:pt x="0" y="0"/>
                </a:moveTo>
                <a:lnTo>
                  <a:pt x="5484" y="0"/>
                </a:lnTo>
                <a:lnTo>
                  <a:pt x="5484" y="3162"/>
                </a:lnTo>
                <a:lnTo>
                  <a:pt x="0" y="31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32160" y="5380200"/>
            <a:ext cx="363600" cy="210960"/>
          </a:xfrm>
          <a:custGeom>
            <a:avLst/>
            <a:gdLst/>
            <a:ahLst/>
            <a:rect l="l" t="t" r="r" b="b"/>
            <a:pathLst>
              <a:path w="229" h="133">
                <a:moveTo>
                  <a:pt x="0" y="0"/>
                </a:moveTo>
                <a:lnTo>
                  <a:pt x="228" y="0"/>
                </a:lnTo>
                <a:lnTo>
                  <a:pt x="228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94040" y="4884840"/>
            <a:ext cx="801720" cy="201600"/>
          </a:xfrm>
          <a:custGeom>
            <a:avLst/>
            <a:gdLst/>
            <a:ahLst/>
            <a:rect l="l" t="t" r="r" b="b"/>
            <a:pathLst>
              <a:path w="505" h="127">
                <a:moveTo>
                  <a:pt x="0" y="0"/>
                </a:moveTo>
                <a:lnTo>
                  <a:pt x="504" y="0"/>
                </a:lnTo>
                <a:lnTo>
                  <a:pt x="504" y="126"/>
                </a:lnTo>
                <a:lnTo>
                  <a:pt x="0" y="12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75160" y="4379760"/>
            <a:ext cx="1020600" cy="211320"/>
          </a:xfrm>
          <a:custGeom>
            <a:avLst/>
            <a:gdLst/>
            <a:ahLst/>
            <a:rect l="l" t="t" r="r" b="b"/>
            <a:pathLst>
              <a:path w="643" h="133">
                <a:moveTo>
                  <a:pt x="0" y="0"/>
                </a:moveTo>
                <a:lnTo>
                  <a:pt x="642" y="0"/>
                </a:lnTo>
                <a:lnTo>
                  <a:pt x="642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89320" y="3875040"/>
            <a:ext cx="1306440" cy="211320"/>
          </a:xfrm>
          <a:custGeom>
            <a:avLst/>
            <a:gdLst/>
            <a:ahLst/>
            <a:rect l="l" t="t" r="r" b="b"/>
            <a:pathLst>
              <a:path w="823" h="133">
                <a:moveTo>
                  <a:pt x="0" y="0"/>
                </a:moveTo>
                <a:lnTo>
                  <a:pt x="822" y="0"/>
                </a:lnTo>
                <a:lnTo>
                  <a:pt x="822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65640" y="3370320"/>
            <a:ext cx="1230120" cy="210960"/>
          </a:xfrm>
          <a:custGeom>
            <a:avLst/>
            <a:gdLst/>
            <a:ahLst/>
            <a:rect l="l" t="t" r="r" b="b"/>
            <a:pathLst>
              <a:path w="775" h="133">
                <a:moveTo>
                  <a:pt x="0" y="0"/>
                </a:moveTo>
                <a:lnTo>
                  <a:pt x="774" y="0"/>
                </a:lnTo>
                <a:lnTo>
                  <a:pt x="77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6480" y="2874960"/>
            <a:ext cx="2249280" cy="201600"/>
          </a:xfrm>
          <a:custGeom>
            <a:avLst/>
            <a:gdLst/>
            <a:ahLst/>
            <a:rect l="l" t="t" r="r" b="b"/>
            <a:pathLst>
              <a:path w="1417" h="127">
                <a:moveTo>
                  <a:pt x="0" y="0"/>
                </a:moveTo>
                <a:lnTo>
                  <a:pt x="1416" y="0"/>
                </a:lnTo>
                <a:lnTo>
                  <a:pt x="1416" y="126"/>
                </a:lnTo>
                <a:lnTo>
                  <a:pt x="0" y="12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4320" y="2370240"/>
            <a:ext cx="2611440" cy="210960"/>
          </a:xfrm>
          <a:custGeom>
            <a:avLst/>
            <a:gdLst/>
            <a:ahLst/>
            <a:rect l="l" t="t" r="r" b="b"/>
            <a:pathLst>
              <a:path w="1645" h="133">
                <a:moveTo>
                  <a:pt x="0" y="0"/>
                </a:moveTo>
                <a:lnTo>
                  <a:pt x="1644" y="0"/>
                </a:lnTo>
                <a:lnTo>
                  <a:pt x="164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8000" y="1865160"/>
            <a:ext cx="2687760" cy="211320"/>
          </a:xfrm>
          <a:custGeom>
            <a:avLst/>
            <a:gdLst/>
            <a:ahLst/>
            <a:rect l="l" t="t" r="r" b="b"/>
            <a:pathLst>
              <a:path w="1693" h="133">
                <a:moveTo>
                  <a:pt x="0" y="0"/>
                </a:moveTo>
                <a:lnTo>
                  <a:pt x="1692" y="0"/>
                </a:lnTo>
                <a:lnTo>
                  <a:pt x="1692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65440" y="1370160"/>
            <a:ext cx="2830320" cy="201600"/>
          </a:xfrm>
          <a:custGeom>
            <a:avLst/>
            <a:gdLst/>
            <a:ahLst/>
            <a:rect l="l" t="t" r="r" b="b"/>
            <a:pathLst>
              <a:path w="1783" h="127">
                <a:moveTo>
                  <a:pt x="0" y="0"/>
                </a:moveTo>
                <a:lnTo>
                  <a:pt x="1782" y="0"/>
                </a:lnTo>
                <a:lnTo>
                  <a:pt x="1782" y="126"/>
                </a:lnTo>
                <a:lnTo>
                  <a:pt x="0" y="12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0440" y="865080"/>
            <a:ext cx="4135320" cy="211320"/>
          </a:xfrm>
          <a:custGeom>
            <a:avLst/>
            <a:gdLst/>
            <a:ahLst/>
            <a:rect l="l" t="t" r="r" b="b"/>
            <a:pathLst>
              <a:path w="2605" h="133">
                <a:moveTo>
                  <a:pt x="0" y="0"/>
                </a:moveTo>
                <a:lnTo>
                  <a:pt x="2604" y="0"/>
                </a:lnTo>
                <a:lnTo>
                  <a:pt x="260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4320" y="5380200"/>
            <a:ext cx="1087200" cy="210960"/>
          </a:xfrm>
          <a:custGeom>
            <a:avLst/>
            <a:gdLst/>
            <a:ahLst/>
            <a:rect l="l" t="t" r="r" b="b"/>
            <a:pathLst>
              <a:path w="685" h="133">
                <a:moveTo>
                  <a:pt x="0" y="0"/>
                </a:moveTo>
                <a:lnTo>
                  <a:pt x="684" y="0"/>
                </a:lnTo>
                <a:lnTo>
                  <a:pt x="68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94320" y="4884840"/>
            <a:ext cx="658800" cy="201600"/>
          </a:xfrm>
          <a:custGeom>
            <a:avLst/>
            <a:gdLst/>
            <a:ahLst/>
            <a:rect l="l" t="t" r="r" b="b"/>
            <a:pathLst>
              <a:path w="415" h="127">
                <a:moveTo>
                  <a:pt x="0" y="0"/>
                </a:moveTo>
                <a:lnTo>
                  <a:pt x="414" y="0"/>
                </a:lnTo>
                <a:lnTo>
                  <a:pt x="414" y="126"/>
                </a:lnTo>
                <a:lnTo>
                  <a:pt x="0" y="1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94320" y="4379760"/>
            <a:ext cx="944640" cy="211320"/>
          </a:xfrm>
          <a:custGeom>
            <a:avLst/>
            <a:gdLst/>
            <a:ahLst/>
            <a:rect l="l" t="t" r="r" b="b"/>
            <a:pathLst>
              <a:path w="595" h="133">
                <a:moveTo>
                  <a:pt x="0" y="0"/>
                </a:moveTo>
                <a:lnTo>
                  <a:pt x="594" y="0"/>
                </a:lnTo>
                <a:lnTo>
                  <a:pt x="59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94320" y="3875040"/>
            <a:ext cx="1020600" cy="211320"/>
          </a:xfrm>
          <a:custGeom>
            <a:avLst/>
            <a:gdLst/>
            <a:ahLst/>
            <a:rect l="l" t="t" r="r" b="b"/>
            <a:pathLst>
              <a:path w="643" h="133">
                <a:moveTo>
                  <a:pt x="0" y="0"/>
                </a:moveTo>
                <a:lnTo>
                  <a:pt x="642" y="0"/>
                </a:lnTo>
                <a:lnTo>
                  <a:pt x="642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4320" y="3370320"/>
            <a:ext cx="1163520" cy="210960"/>
          </a:xfrm>
          <a:custGeom>
            <a:avLst/>
            <a:gdLst/>
            <a:ahLst/>
            <a:rect l="l" t="t" r="r" b="b"/>
            <a:pathLst>
              <a:path w="733" h="133">
                <a:moveTo>
                  <a:pt x="0" y="0"/>
                </a:moveTo>
                <a:lnTo>
                  <a:pt x="732" y="0"/>
                </a:lnTo>
                <a:lnTo>
                  <a:pt x="732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94320" y="2874960"/>
            <a:ext cx="944640" cy="201600"/>
          </a:xfrm>
          <a:custGeom>
            <a:avLst/>
            <a:gdLst/>
            <a:ahLst/>
            <a:rect l="l" t="t" r="r" b="b"/>
            <a:pathLst>
              <a:path w="595" h="127">
                <a:moveTo>
                  <a:pt x="0" y="0"/>
                </a:moveTo>
                <a:lnTo>
                  <a:pt x="594" y="0"/>
                </a:lnTo>
                <a:lnTo>
                  <a:pt x="594" y="126"/>
                </a:lnTo>
                <a:lnTo>
                  <a:pt x="0" y="1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94320" y="2370240"/>
            <a:ext cx="801720" cy="210960"/>
          </a:xfrm>
          <a:custGeom>
            <a:avLst/>
            <a:gdLst/>
            <a:ahLst/>
            <a:rect l="l" t="t" r="r" b="b"/>
            <a:pathLst>
              <a:path w="505" h="133">
                <a:moveTo>
                  <a:pt x="0" y="0"/>
                </a:moveTo>
                <a:lnTo>
                  <a:pt x="504" y="0"/>
                </a:lnTo>
                <a:lnTo>
                  <a:pt x="50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94320" y="1865160"/>
            <a:ext cx="944640" cy="211320"/>
          </a:xfrm>
          <a:custGeom>
            <a:avLst/>
            <a:gdLst/>
            <a:ahLst/>
            <a:rect l="l" t="t" r="r" b="b"/>
            <a:pathLst>
              <a:path w="595" h="133">
                <a:moveTo>
                  <a:pt x="0" y="0"/>
                </a:moveTo>
                <a:lnTo>
                  <a:pt x="594" y="0"/>
                </a:lnTo>
                <a:lnTo>
                  <a:pt x="594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94320" y="1370160"/>
            <a:ext cx="1525320" cy="201600"/>
          </a:xfrm>
          <a:custGeom>
            <a:avLst/>
            <a:gdLst/>
            <a:ahLst/>
            <a:rect l="l" t="t" r="r" b="b"/>
            <a:pathLst>
              <a:path w="961" h="127">
                <a:moveTo>
                  <a:pt x="0" y="0"/>
                </a:moveTo>
                <a:lnTo>
                  <a:pt x="960" y="0"/>
                </a:lnTo>
                <a:lnTo>
                  <a:pt x="960" y="126"/>
                </a:lnTo>
                <a:lnTo>
                  <a:pt x="0" y="1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94320" y="865080"/>
            <a:ext cx="2973240" cy="211320"/>
          </a:xfrm>
          <a:custGeom>
            <a:avLst/>
            <a:gdLst/>
            <a:ahLst/>
            <a:rect l="l" t="t" r="r" b="b"/>
            <a:pathLst>
              <a:path w="1873" h="133">
                <a:moveTo>
                  <a:pt x="0" y="0"/>
                </a:moveTo>
                <a:lnTo>
                  <a:pt x="1872" y="0"/>
                </a:lnTo>
                <a:lnTo>
                  <a:pt x="1872" y="132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2600" y="5732640"/>
            <a:ext cx="862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4120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68912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14640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59432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04188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49952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947080" y="5695920"/>
            <a:ext cx="0" cy="13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94320" y="754200"/>
            <a:ext cx="0" cy="494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20" y="5848200"/>
            <a:ext cx="43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73840" y="5848200"/>
            <a:ext cx="43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9000" y="5848200"/>
            <a:ext cx="33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55720" y="5848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03640" y="5848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13040" y="58482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60600" y="58482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75560" y="5343480"/>
            <a:ext cx="1389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5720" y="4838760"/>
            <a:ext cx="18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ory limi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8080" y="4334040"/>
            <a:ext cx="120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83880" y="3838680"/>
            <a:ext cx="1806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ck of airma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01520" y="3333600"/>
            <a:ext cx="85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e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50160" y="2828880"/>
            <a:ext cx="213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inistrativ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61960" y="2324160"/>
            <a:ext cx="127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61640" y="1828800"/>
            <a:ext cx="171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task 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2480" y="1324080"/>
            <a:ext cx="111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32440" y="819000"/>
            <a:ext cx="135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3040" y="625320"/>
            <a:ext cx="15217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67520" y="223848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80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43880" y="22003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93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17200" y="52102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79160" y="52228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8360" y="40924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788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7328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9640" y="51721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6080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066680" y="2844360"/>
            <a:ext cx="1016280" cy="13208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574640" y="2806560"/>
            <a:ext cx="1562400" cy="134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98600" y="2844720"/>
            <a:ext cx="939960" cy="2502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68680" y="2857320"/>
            <a:ext cx="0" cy="12445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3886200" y="2831760"/>
            <a:ext cx="711360" cy="2514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140360" y="2819520"/>
            <a:ext cx="1434960" cy="12952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5473800" y="2806560"/>
            <a:ext cx="304560" cy="134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867280" y="2895120"/>
            <a:ext cx="939960" cy="12826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985080" y="2895480"/>
            <a:ext cx="0" cy="24004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7238520" y="2908440"/>
            <a:ext cx="965160" cy="12571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2200" y="2527200"/>
            <a:ext cx="630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5908680" y="2463840"/>
            <a:ext cx="550800" cy="25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598840" y="1257120"/>
            <a:ext cx="1112760" cy="888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780000" y="1218960"/>
            <a:ext cx="439560" cy="96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5019840" y="1270080"/>
            <a:ext cx="39816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5425560" y="1219320"/>
            <a:ext cx="1033560" cy="952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40480" y="587520"/>
            <a:ext cx="1445760" cy="520560"/>
          </a:xfrm>
          <a:prstGeom prst="rect">
            <a:avLst/>
          </a:prstGeom>
          <a:solidFill>
            <a:srgbClr val="99f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67520" y="223848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80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43880" y="22003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93320" y="2225520"/>
            <a:ext cx="932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17200" y="52102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79160" y="52228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8360" y="409248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788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7328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79640" y="51721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60800" y="4054320"/>
            <a:ext cx="114696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066680" y="2844360"/>
            <a:ext cx="1016280" cy="13208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74640" y="2806560"/>
            <a:ext cx="1562400" cy="134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298600" y="2844720"/>
            <a:ext cx="939960" cy="2502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68680" y="2857320"/>
            <a:ext cx="0" cy="12445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886200" y="2831760"/>
            <a:ext cx="711360" cy="2514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4140360" y="2819520"/>
            <a:ext cx="1434960" cy="12952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5473800" y="2806560"/>
            <a:ext cx="304560" cy="134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867280" y="2895120"/>
            <a:ext cx="939960" cy="12826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985080" y="2895480"/>
            <a:ext cx="0" cy="24004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7238520" y="2908440"/>
            <a:ext cx="965160" cy="12571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62200" y="2527200"/>
            <a:ext cx="630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5908680" y="2463840"/>
            <a:ext cx="550800" cy="25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598840" y="1257120"/>
            <a:ext cx="1112760" cy="888840"/>
          </a:xfrm>
          <a:prstGeom prst="line">
            <a:avLst/>
          </a:prstGeom>
          <a:ln cap="rnd" w="76320">
            <a:solidFill>
              <a:srgbClr val="99ff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780000" y="1218960"/>
            <a:ext cx="439560" cy="927000"/>
          </a:xfrm>
          <a:prstGeom prst="line">
            <a:avLst/>
          </a:prstGeom>
          <a:ln cap="rnd" w="76320">
            <a:solidFill>
              <a:srgbClr val="99ff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5019840" y="1269720"/>
            <a:ext cx="398160" cy="819000"/>
          </a:xfrm>
          <a:prstGeom prst="line">
            <a:avLst/>
          </a:prstGeom>
          <a:ln cap="rnd" w="76320">
            <a:solidFill>
              <a:srgbClr val="99ff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425560" y="1219320"/>
            <a:ext cx="1033560" cy="952560"/>
          </a:xfrm>
          <a:prstGeom prst="line">
            <a:avLst/>
          </a:prstGeom>
          <a:ln cap="rnd" w="76320">
            <a:solidFill>
              <a:srgbClr val="99ff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086280" y="2577600"/>
            <a:ext cx="2692080" cy="406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97360" y="1409760"/>
            <a:ext cx="2603520" cy="1270080"/>
          </a:xfrm>
          <a:prstGeom prst="line">
            <a:avLst/>
          </a:prstGeom>
          <a:ln w="7632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740560" y="3200040"/>
            <a:ext cx="0" cy="6476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14880" y="4724280"/>
            <a:ext cx="2108160" cy="1067040"/>
          </a:xfrm>
          <a:prstGeom prst="line">
            <a:avLst/>
          </a:prstGeom>
          <a:ln w="7632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13080" y="5702400"/>
            <a:ext cx="2692440" cy="4953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57880" y="2286000"/>
            <a:ext cx="252720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295960"/>
            <a:ext cx="252756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7480" y="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e &amp; Avoid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49560" y="55022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44280" y="247968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ych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4240" y="3851280"/>
            <a:ext cx="2545920" cy="764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fl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ypes, headings,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89960" y="1108080"/>
            <a:ext cx="1453320" cy="764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ypes,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4040" y="3838680"/>
            <a:ext cx="1553760" cy="764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W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07320" y="1120680"/>
            <a:ext cx="1899720" cy="764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istorical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6120" y="5616720"/>
            <a:ext cx="2317320" cy="10695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KLFS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and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20" y="4321080"/>
            <a:ext cx="3324600" cy="10695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KLF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itary bookings,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ian surveys, CAA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727600" y="4737240"/>
            <a:ext cx="0" cy="77472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02400" y="1917360"/>
            <a:ext cx="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9720" y="1498680"/>
            <a:ext cx="4190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267080"/>
            <a:ext cx="3175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0960" y="892080"/>
            <a:ext cx="2643480" cy="10695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ircraft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, crew, size, 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t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4760" y="2162160"/>
            <a:ext cx="3143520" cy="13744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8 sites, 10 yea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mination and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748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2747880" y="843120"/>
            <a:ext cx="4778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onfidenti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ncid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eporting &amp;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naly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920" y="23508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ailway 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9334440" cy="70102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5080" y="82440"/>
            <a:ext cx="8775720" cy="6566040"/>
          </a:xfrm>
          <a:prstGeom prst="rect">
            <a:avLst/>
          </a:prstGeom>
          <a:solidFill>
            <a:srgbClr val="f39fd1"/>
          </a:solidFill>
          <a:ln w="12600">
            <a:solidFill>
              <a:srgbClr val="6e004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149480"/>
            <a:ext cx="7003800" cy="53974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6b6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11440" y="2216160"/>
            <a:ext cx="5299200" cy="3340080"/>
          </a:xfrm>
          <a:prstGeom prst="rect">
            <a:avLst/>
          </a:prstGeom>
          <a:solidFill>
            <a:srgbClr val="eaec5e"/>
          </a:solidFill>
          <a:ln w="12600">
            <a:solidFill>
              <a:srgbClr val="7144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35680" y="3435480"/>
            <a:ext cx="3568680" cy="189216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53840" y="4678200"/>
            <a:ext cx="1487520" cy="4546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20160" y="3789360"/>
            <a:ext cx="1284840" cy="454680"/>
          </a:xfrm>
          <a:prstGeom prst="rect">
            <a:avLst/>
          </a:prstGeom>
          <a:solidFill>
            <a:srgbClr val="dddddd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b50069"/>
                </a:solidFill>
                <a:latin typeface="Times New Roman"/>
              </a:rPr>
              <a:t>I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01240" y="4678200"/>
            <a:ext cx="1011960" cy="454680"/>
          </a:xfrm>
          <a:prstGeom prst="rect">
            <a:avLst/>
          </a:prstGeom>
          <a:solidFill>
            <a:srgbClr val="dddddd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24760" y="3913200"/>
            <a:ext cx="114264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9160" y="4457520"/>
            <a:ext cx="11419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02320" y="3900600"/>
            <a:ext cx="116820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065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0658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02320" y="4533840"/>
            <a:ext cx="144756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6320" y="5770440"/>
            <a:ext cx="774360" cy="45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000" y="650880"/>
            <a:ext cx="25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e0043"/>
                </a:solidFill>
                <a:latin typeface="Times New Roman"/>
              </a:rPr>
              <a:t>Disruptive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46520" y="1733400"/>
            <a:ext cx="234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e47"/>
                </a:solidFill>
                <a:latin typeface="Times New Roman"/>
              </a:rPr>
              <a:t>Enabl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7760" y="2859120"/>
            <a:ext cx="241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14400"/>
                </a:solidFill>
                <a:latin typeface="Times New Roman"/>
              </a:rPr>
              <a:t>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75320" y="88920"/>
            <a:ext cx="244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6e0043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37600" y="1198440"/>
            <a:ext cx="139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4e47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77080" y="2247840"/>
            <a:ext cx="19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7144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36000" y="3330720"/>
            <a:ext cx="13640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arou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derarou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72800" y="2270160"/>
            <a:ext cx="1449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g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e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1360" y="1203480"/>
            <a:ext cx="13334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324000" y="303120"/>
          <a:ext cx="8820000" cy="595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03120"/>
                    <a:ext cx="88200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5880" y="27288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I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46120" y="704880"/>
          <a:ext cx="823752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704880"/>
                    <a:ext cx="823752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7093080" y="6370560"/>
          <a:ext cx="205092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2080" y="17136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I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73120" y="668160"/>
          <a:ext cx="816444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668160"/>
                    <a:ext cx="816444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1760" y="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I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66640" y="587520"/>
          <a:ext cx="8047080" cy="57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587520"/>
                    <a:ext cx="8047080" cy="57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748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3165120" y="1144440"/>
            <a:ext cx="3429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uma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actor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p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epor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04920" y="539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A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0" y="247680"/>
          <a:ext cx="9144000" cy="596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7680"/>
                    <a:ext cx="914400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2057400" y="3562200"/>
            <a:ext cx="5200560" cy="196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90720" y="3549600"/>
            <a:ext cx="0" cy="211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48160" y="3535200"/>
            <a:ext cx="0" cy="211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94080" y="3557520"/>
            <a:ext cx="0" cy="211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84840" y="3559320"/>
            <a:ext cx="0" cy="2114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539040" y="3552840"/>
            <a:ext cx="0" cy="211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38560" y="3541680"/>
            <a:ext cx="0" cy="211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0" y="247680"/>
          <a:ext cx="9144000" cy="596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7680"/>
                    <a:ext cx="914400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0" y="304920"/>
          <a:ext cx="9144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2898720" y="5943600"/>
            <a:ext cx="34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e5405d"/>
                </a:solidFill>
                <a:latin typeface="Arial"/>
              </a:rPr>
              <a:t>Mapping the ice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27000" y="851040"/>
            <a:ext cx="3339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type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= 0.4X1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48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04640" y="1801800"/>
            <a:ext cx="8622000" cy="31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cc00"/>
                </a:solidFill>
                <a:latin typeface="Garamond"/>
              </a:rPr>
              <a:t>Ariadne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Garamond"/>
              </a:rPr>
              <a:t>causal factors databa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539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A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784080" y="4762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93840" y="1571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9960" y="1495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96760" y="1420920"/>
            <a:ext cx="7582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le incidents jus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rehensive risk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ed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oss biases in reporting - safety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re subtle biases in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certainties associated with under-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7086600" y="6370560"/>
          <a:ext cx="20509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370560"/>
                    <a:ext cx="2050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2193840" y="1571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9960" y="1495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30760" y="790560"/>
            <a:ext cx="7069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John Chappelow OBE, BSc, CPsychol, AFBP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entre for Human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50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ERA Farnbo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Hampshire, GU14 0LX, 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el.: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01252 3943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Fax.: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01252 3933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mail: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jwchappelow@dera.gov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334440" cy="70102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82440"/>
            <a:ext cx="8775720" cy="6566040"/>
          </a:xfrm>
          <a:prstGeom prst="rect">
            <a:avLst/>
          </a:prstGeom>
          <a:solidFill>
            <a:srgbClr val="f39fd1"/>
          </a:solidFill>
          <a:ln w="12600">
            <a:solidFill>
              <a:srgbClr val="6e004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1149480"/>
            <a:ext cx="7003800" cy="53974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6b6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11440" y="2216160"/>
            <a:ext cx="5299200" cy="3340080"/>
          </a:xfrm>
          <a:prstGeom prst="rect">
            <a:avLst/>
          </a:prstGeom>
          <a:solidFill>
            <a:srgbClr val="eaec5e"/>
          </a:solidFill>
          <a:ln w="12600">
            <a:solidFill>
              <a:srgbClr val="7144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35680" y="3435480"/>
            <a:ext cx="3568680" cy="189216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3840" y="4678200"/>
            <a:ext cx="1487520" cy="4546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0160" y="3789360"/>
            <a:ext cx="1284840" cy="454680"/>
          </a:xfrm>
          <a:prstGeom prst="rect">
            <a:avLst/>
          </a:prstGeom>
          <a:solidFill>
            <a:srgbClr val="dddddd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b50069"/>
                </a:solidFill>
                <a:latin typeface="Times New Roman"/>
              </a:rPr>
              <a:t>I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1240" y="4678200"/>
            <a:ext cx="1011960" cy="454680"/>
          </a:xfrm>
          <a:prstGeom prst="rect">
            <a:avLst/>
          </a:prstGeom>
          <a:solidFill>
            <a:srgbClr val="dddddd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4760" y="3913200"/>
            <a:ext cx="114264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9160" y="4457520"/>
            <a:ext cx="11419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2320" y="3900600"/>
            <a:ext cx="116820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065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0658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02320" y="4533840"/>
            <a:ext cx="144756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f0000"/>
            </a:solidFill>
            <a:miter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46320" y="5770440"/>
            <a:ext cx="774360" cy="45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8000" y="650880"/>
            <a:ext cx="25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e0043"/>
                </a:solidFill>
                <a:latin typeface="Times New Roman"/>
              </a:rPr>
              <a:t>Disruptive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1733400"/>
            <a:ext cx="234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e47"/>
                </a:solidFill>
                <a:latin typeface="Times New Roman"/>
              </a:rPr>
              <a:t>Enabl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7760" y="2859120"/>
            <a:ext cx="241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14400"/>
                </a:solidFill>
                <a:latin typeface="Times New Roman"/>
              </a:rPr>
              <a:t>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5320" y="88920"/>
            <a:ext cx="244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6e0043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37600" y="1198440"/>
            <a:ext cx="139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4e47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47840"/>
            <a:ext cx="19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7144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6000" y="3330720"/>
            <a:ext cx="13640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arou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derarou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2800" y="2270160"/>
            <a:ext cx="1449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g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e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203480"/>
            <a:ext cx="13334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1760" y="457200"/>
            <a:ext cx="1756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in 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93960" y="444600"/>
            <a:ext cx="2291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aft d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685800"/>
            <a:ext cx="11559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7080" y="3562200"/>
            <a:ext cx="16819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cing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ring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7680" y="3543480"/>
            <a:ext cx="179928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ir st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lve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56280" y="3562200"/>
            <a:ext cx="187848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rter 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n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5760" y="2362320"/>
            <a:ext cx="19209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rter 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urbin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80680" y="2362320"/>
            <a:ext cx="1791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urbine dis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2560" y="1295280"/>
            <a:ext cx="22838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el tank ru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0840" y="1295280"/>
            <a:ext cx="37666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gine bypass casing ru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81760" y="457200"/>
            <a:ext cx="1756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in 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93960" y="444600"/>
            <a:ext cx="2291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aft d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86160" y="394344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43200" y="1828800"/>
            <a:ext cx="533520" cy="457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639200" y="321912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105520" y="2819520"/>
            <a:ext cx="7617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72160" y="3924360"/>
            <a:ext cx="381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029200" y="1828800"/>
            <a:ext cx="533520" cy="457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105520" y="914040"/>
            <a:ext cx="45720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43200" y="914040"/>
            <a:ext cx="45720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85800"/>
            <a:ext cx="11559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5200" y="3562200"/>
            <a:ext cx="16819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f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ring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95560" y="392436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69800" y="3562200"/>
            <a:ext cx="1657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l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81640" y="3581280"/>
            <a:ext cx="2044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Uncomma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8080" y="3562200"/>
            <a:ext cx="21207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Uncomman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4680" y="2362320"/>
            <a:ext cx="2261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7800" y="2362320"/>
            <a:ext cx="2261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20400" y="1295280"/>
            <a:ext cx="2261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9400" y="1295280"/>
            <a:ext cx="2261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1760" y="457200"/>
            <a:ext cx="1756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in 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93960" y="444600"/>
            <a:ext cx="2291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aft d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394344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743200" y="1828800"/>
            <a:ext cx="533520" cy="457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639200" y="2914560"/>
            <a:ext cx="0" cy="6098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600880" y="2629080"/>
            <a:ext cx="304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72160" y="3924360"/>
            <a:ext cx="381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29200" y="1828800"/>
            <a:ext cx="533520" cy="457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105520" y="914040"/>
            <a:ext cx="45720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43200" y="914040"/>
            <a:ext cx="45720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685800"/>
            <a:ext cx="11559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65400" y="3562200"/>
            <a:ext cx="13863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71560" y="390528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8960" y="5600880"/>
            <a:ext cx="285228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dequat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06040" y="5619600"/>
            <a:ext cx="166356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f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047240" y="4457520"/>
            <a:ext cx="1219320" cy="1199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447560" y="4476240"/>
            <a:ext cx="3219480" cy="12193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48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6360" y="533520"/>
            <a:ext cx="2398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4 crew: wea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13000" y="685800"/>
            <a:ext cx="202644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/c sho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381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48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06200" y="5334120"/>
            <a:ext cx="24408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Q: Live wea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les out of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5120" y="3886200"/>
            <a:ext cx="2844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n: Rules interpr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letter not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8520" y="3733920"/>
            <a:ext cx="19044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lleng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pre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9440" y="2419200"/>
            <a:ext cx="15966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adequ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ie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1760" y="2438280"/>
            <a:ext cx="261288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/c prepared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ar-tim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8280" y="2438280"/>
            <a:ext cx="18176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arrows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7640" y="324000"/>
            <a:ext cx="29635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ckpit app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igured for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78560" y="343080"/>
            <a:ext cx="2398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4 crew: wea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040" y="495360"/>
            <a:ext cx="202644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/c sho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209680" y="3314520"/>
            <a:ext cx="362160" cy="32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038480" y="4781160"/>
            <a:ext cx="0" cy="514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38600" y="1199880"/>
            <a:ext cx="9712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943440" y="3352320"/>
            <a:ext cx="0" cy="514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448240" y="3295800"/>
            <a:ext cx="838440" cy="628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14880" y="743040"/>
            <a:ext cx="4190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333760" y="1200240"/>
            <a:ext cx="933480" cy="1162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57480" y="1218960"/>
            <a:ext cx="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48200" y="743040"/>
            <a:ext cx="781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156440" y="6386400"/>
          <a:ext cx="19810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6386400"/>
                    <a:ext cx="1981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09:59:19Z</dcterms:created>
  <dc:creator>JWCHAPPELOW</dc:creator>
  <dc:description/>
  <dc:language>en-US</dc:language>
  <cp:lastModifiedBy>JWCHAPPELOW</cp:lastModifiedBy>
  <cp:lastPrinted>2001-02-08T10:47:24Z</cp:lastPrinted>
  <dcterms:modified xsi:type="dcterms:W3CDTF">2001-02-19T10:28:53Z</dcterms:modified>
  <cp:revision>64</cp:revision>
  <dc:subject/>
  <dc:title>No Slide Title</dc:title>
</cp:coreProperties>
</file>