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2.pct" ContentType="image/x-pict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58C-F342-442A-B35C-2D2EBE6A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71F-9358-48C6-BD69-2AD4F666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CD1-2500-4D52-B794-D23CA25B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EF7-0193-40EB-944B-0263753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1BB-64CA-4C81-B929-451681F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30F-6D7B-48EA-B09A-7FC0922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6FB-C4F8-4BDB-8D69-335A932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447-4E99-4AB6-9AFA-DCB714DD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C6C-0DEC-4E42-BBC2-5C8CF78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7A9-B1A7-4916-B915-9DE743D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446-93FB-414F-B2ED-AE9BAC7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EA8-D6E2-4DCE-B12E-45A053C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DDE-C670-458C-B4D8-A2069A7F50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600200" cy="25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F implications of an emergency for A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Isaac, N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38116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76920" y="3809880"/>
            <a:ext cx="3862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ing the Mental Model - between Pilots and Cont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2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2017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ure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2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2017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ntion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e wan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2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2017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- what do we have, what do we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12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2017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ssues/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trollers use this to assist in an emerg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599760" y="-21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c HD:Users:riendoorn:Desktop:RAeS2010Isaac:gliders.mp4" descr="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867280" cy="3305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C - one jo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orl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and Response - it’s no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ment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to help controll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C - what’s it all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C - one job -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fferent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17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98920" y="2209680"/>
            <a:ext cx="5392800" cy="285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313380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5791320"/>
            <a:ext cx="3809880" cy="533160"/>
          </a:xfrm>
          <a:prstGeom prst="rect">
            <a:avLst/>
          </a:prstGeom>
          <a:noFill/>
          <a:ln w="9360">
            <a:solidFill>
              <a:srgbClr val="2b4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4ccd"/>
                </a:solidFill>
                <a:latin typeface="Arial"/>
              </a:rPr>
              <a:t>Distress and Diversion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orld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124080" cy="258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5181480"/>
            <a:ext cx="7489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in many                  many i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124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laration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Pilots it’s ‘relatively’ standard - aviate, navigate, communicate and use emergency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require time and space or unrestricted descent and direct to airfiel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y want to surviv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Controllers its always different - unit, airspace, team,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require information, information and informatio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they want to avoid loss of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/Disbelief/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y h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y under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y confirm their understan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 to supervisor - the whole room kno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the position if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the problem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team takes over the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ing the scan -splitting position helps to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ing the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hearing cl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 confirmator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ropping tasks, since work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sing al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larifying information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pilots not telling the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9c1"/>
            </a:gs>
            <a:gs pos="50000">
              <a:srgbClr val="ffffff"/>
            </a:gs>
            <a:gs pos="100000">
              <a:srgbClr val="8999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ing the Mental Model - between the team and interface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447640" cy="2417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flipH="1">
            <a:off x="5867280" y="2286000"/>
            <a:ext cx="2448000" cy="241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8120" y="3276720"/>
            <a:ext cx="2743200" cy="266760"/>
          </a:xfrm>
          <a:custGeom>
            <a:avLst/>
            <a:gdLst/>
            <a:ahLst/>
            <a:rect l="l" t="t" r="r" b="b"/>
            <a:pathLst>
              <a:path w="1728" h="168">
                <a:moveTo>
                  <a:pt x="0" y="152"/>
                </a:moveTo>
                <a:cubicBezTo>
                  <a:pt x="128" y="160"/>
                  <a:pt x="256" y="168"/>
                  <a:pt x="336" y="152"/>
                </a:cubicBezTo>
                <a:cubicBezTo>
                  <a:pt x="416" y="136"/>
                  <a:pt x="368" y="56"/>
                  <a:pt x="480" y="56"/>
                </a:cubicBezTo>
                <a:cubicBezTo>
                  <a:pt x="592" y="56"/>
                  <a:pt x="888" y="160"/>
                  <a:pt x="1008" y="152"/>
                </a:cubicBezTo>
                <a:cubicBezTo>
                  <a:pt x="1128" y="144"/>
                  <a:pt x="1080" y="16"/>
                  <a:pt x="1200" y="8"/>
                </a:cubicBezTo>
                <a:cubicBezTo>
                  <a:pt x="1320" y="0"/>
                  <a:pt x="1640" y="88"/>
                  <a:pt x="1728" y="104"/>
                </a:cubicBezTo>
              </a:path>
            </a:pathLst>
          </a:custGeom>
          <a:noFill/>
          <a:ln w="38160">
            <a:solidFill>
              <a:srgbClr val="2b4c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2666880"/>
            <a:ext cx="2514600" cy="0"/>
          </a:xfrm>
          <a:prstGeom prst="line">
            <a:avLst/>
          </a:prstGeom>
          <a:ln w="38160">
            <a:solidFill>
              <a:srgbClr val="2b4cc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191120"/>
            <a:ext cx="2641320" cy="1155600"/>
          </a:xfrm>
          <a:custGeom>
            <a:avLst/>
            <a:gdLst/>
            <a:ahLst/>
            <a:rect l="l" t="t" r="r" b="b"/>
            <a:pathLst>
              <a:path w="1664" h="728">
                <a:moveTo>
                  <a:pt x="0" y="144"/>
                </a:moveTo>
                <a:cubicBezTo>
                  <a:pt x="168" y="296"/>
                  <a:pt x="336" y="448"/>
                  <a:pt x="480" y="432"/>
                </a:cubicBezTo>
                <a:cubicBezTo>
                  <a:pt x="624" y="416"/>
                  <a:pt x="688" y="0"/>
                  <a:pt x="864" y="48"/>
                </a:cubicBezTo>
                <a:cubicBezTo>
                  <a:pt x="1040" y="96"/>
                  <a:pt x="1408" y="712"/>
                  <a:pt x="1536" y="720"/>
                </a:cubicBezTo>
                <a:cubicBezTo>
                  <a:pt x="1664" y="728"/>
                  <a:pt x="1616" y="200"/>
                  <a:pt x="1632" y="96"/>
                </a:cubicBezTo>
              </a:path>
            </a:pathLst>
          </a:custGeom>
          <a:noFill/>
          <a:ln w="28440">
            <a:solidFill>
              <a:srgbClr val="2b4c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886200"/>
            <a:ext cx="2438640" cy="927000"/>
          </a:xfrm>
          <a:custGeom>
            <a:avLst/>
            <a:gdLst/>
            <a:ahLst/>
            <a:rect l="l" t="t" r="r" b="b"/>
            <a:pathLst>
              <a:path w="1536" h="584">
                <a:moveTo>
                  <a:pt x="1536" y="160"/>
                </a:moveTo>
                <a:cubicBezTo>
                  <a:pt x="1352" y="80"/>
                  <a:pt x="1168" y="0"/>
                  <a:pt x="1008" y="64"/>
                </a:cubicBezTo>
                <a:cubicBezTo>
                  <a:pt x="848" y="128"/>
                  <a:pt x="728" y="504"/>
                  <a:pt x="576" y="544"/>
                </a:cubicBezTo>
                <a:cubicBezTo>
                  <a:pt x="424" y="584"/>
                  <a:pt x="192" y="352"/>
                  <a:pt x="96" y="304"/>
                </a:cubicBezTo>
                <a:cubicBezTo>
                  <a:pt x="0" y="256"/>
                  <a:pt x="0" y="256"/>
                  <a:pt x="0" y="256"/>
                </a:cubicBezTo>
              </a:path>
            </a:pathLst>
          </a:custGeom>
          <a:noFill/>
          <a:ln w="19080">
            <a:solidFill>
              <a:srgbClr val="2b4c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01:13Z</dcterms:created>
  <dc:creator>Rien Doorn</dc:creator>
  <dc:description/>
  <dc:language>en-US</dc:language>
  <cp:lastModifiedBy>Rien Doorn</cp:lastModifiedBy>
  <dcterms:modified xsi:type="dcterms:W3CDTF">2010-09-27T07:58:37Z</dcterms:modified>
  <cp:revision>20</cp:revision>
  <dc:subject/>
  <dc:title>PowerPoint Presentation</dc:title>
</cp:coreProperties>
</file>